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603-0BE4-4E3F-B21C-7DDDA846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B2E-7D67-4FDF-9E9E-738BD5E4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A3B-9318-4CB6-B239-794941C4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3D5-2538-4C43-A4EB-D85B3FCC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E7F-31A0-4602-AC11-A2BB9C9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0B8-120B-4449-8681-5E03F309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72C-3D4A-4219-892F-44FAD808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4B9-498C-4162-A2DF-C0DE7AC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91F-A3A9-4A10-BD2F-CD033578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818-1166-4363-AE79-47DBF795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BD7-1AED-43DE-80F1-FC61BEA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8DB-F204-44EB-8578-7116CD4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AD4-158E-4B55-B964-2C04AF3596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5791320" y="4643280"/>
            <a:ext cx="3352680" cy="221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204920" y="0"/>
            <a:ext cx="115538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800" spc="-1" strike="noStrike">
                <a:solidFill>
                  <a:srgbClr val="ffffff"/>
                </a:solidFill>
                <a:latin typeface="Calibri"/>
              </a:rPr>
              <a:t>Austri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ttp://www.youtube.com/user/austriatourism#p/u/1/DXzng6UTE4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18606" t="20731" r="12791" b="11565"/>
          <a:stretch/>
        </p:blipFill>
        <p:spPr>
          <a:xfrm>
            <a:off x="0" y="-428760"/>
            <a:ext cx="9144000" cy="75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785960"/>
            <a:ext cx="9221760" cy="5072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ustria -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7120" y="1428480"/>
            <a:ext cx="82296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Area: 83,500 km2 (Korea: 100,210 km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Inhabitants: 8 Million (Korea: 50 Mill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Currency: Euro € (1 € = 1,500 W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Capital: Vien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ighest Mountain: Großglockner (3,798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Biggest River: Dan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ustria – som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0000"/>
                </a:solidFill>
                <a:latin typeface="Calibri"/>
              </a:rPr>
              <a:t>Can you speak German? YES, you ca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kindergar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handst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noo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pretz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wunderk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doppelgä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2095200" cy="298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2786040" y="21420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5072040" y="214200"/>
            <a:ext cx="33336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"/>
          <p:cNvPicPr/>
          <p:nvPr/>
        </p:nvPicPr>
        <p:blipFill>
          <a:blip r:embed="rId4"/>
          <a:stretch/>
        </p:blipFill>
        <p:spPr>
          <a:xfrm>
            <a:off x="4210200" y="3571920"/>
            <a:ext cx="4933800" cy="32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5"/>
          <a:stretch/>
        </p:blipFill>
        <p:spPr>
          <a:xfrm>
            <a:off x="6215040" y="114300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6"/>
          <a:stretch/>
        </p:blipFill>
        <p:spPr>
          <a:xfrm>
            <a:off x="3214800" y="2214720"/>
            <a:ext cx="3171600" cy="307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7"/>
          <a:stretch/>
        </p:blipFill>
        <p:spPr>
          <a:xfrm>
            <a:off x="285840" y="3357720"/>
            <a:ext cx="4600440" cy="306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8"/>
          <a:stretch/>
        </p:blipFill>
        <p:spPr>
          <a:xfrm>
            <a:off x="1285920" y="1500120"/>
            <a:ext cx="67150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An Austrian went yode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nce an Austrian went yode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n a mountain top hi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when along came an everl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interrupting his c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di-ri-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llare g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hollarediria h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7:15:43Z</dcterms:created>
  <dc:creator>Maria Hitzginger</dc:creator>
  <dc:description/>
  <dc:language>en-US</dc:language>
  <cp:lastModifiedBy>Maria Hitzginger</cp:lastModifiedBy>
  <dcterms:modified xsi:type="dcterms:W3CDTF">2011-09-21T22:02:09Z</dcterms:modified>
  <cp:revision>12</cp:revision>
  <dc:subject/>
  <dc:title>Folie 1</dc:title>
</cp:coreProperties>
</file>